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83C8-3B1A-4360-8975-E8A84FFF4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B8FF-8043-4542-A778-4C1BDBDA9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960-FF28-4633-8C91-F7A3C287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EDB3-7145-4838-9B7E-DAA3AB09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8A4-A976-4BA0-B97E-31880522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5660-378D-4ECD-935A-5E8154D6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DF9-088D-4A8F-9DBA-8B52DA06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B5B-D677-4640-8F5F-0DDD5286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54E-3D52-4591-BDCC-6AA3F72F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A9D-7A48-4CD7-96DA-6B967D3D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C92-044E-4E50-AE6E-6903E981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CBB-C0D7-4358-8E2B-17DAD107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624F-27C9-4E52-8F9E-928167A6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811-DEC1-4A79-8E34-DE3F2341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4298-F4D1-4278-8226-68CC1AFA4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If they sit and listen, what they learn to do is sit and listen.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2895480" y="2243160"/>
            <a:ext cx="5867640" cy="4614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87200" y="2895480"/>
            <a:ext cx="3775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all Phil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277920" y="1843200"/>
            <a:ext cx="8589960" cy="2903400"/>
          </a:xfrm>
          <a:prstGeom prst="rect">
            <a:avLst/>
          </a:prstGeom>
          <a:ln w="0">
            <a:noFill/>
          </a:ln>
        </p:spPr>
      </p:pic>
      <p:sp>
        <p:nvSpPr>
          <p:cNvPr id="85" name="Title 1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ial Hierarchy of Bloom’s Tax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4"/>
          <p:cNvSpPr/>
          <p:nvPr/>
        </p:nvSpPr>
        <p:spPr>
          <a:xfrm>
            <a:off x="0" y="15228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Deliberate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Ericsson, et al., 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The one doing is the on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5001" t="0" r="-1501" b="0"/>
          <a:stretch/>
        </p:blipFill>
        <p:spPr>
          <a:xfrm>
            <a:off x="1295280" y="1946160"/>
            <a:ext cx="67057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rmative assessment (i.e. active learning)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kes students the do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05520" y="2209320"/>
            <a:ext cx="4038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rieve prior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y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ab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e reasoning and scientific process skill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0" y="21337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ckward Design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Wiggins and McTighe, 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152280" y="1752480"/>
            <a:ext cx="5943600" cy="1447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898560" y="4303800"/>
            <a:ext cx="344484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80880" y="167652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should students know or be able to do by the end of 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2438280" y="3429000"/>
            <a:ext cx="571500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514600" y="34290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evidence will convince you that they go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4648320" y="5181480"/>
            <a:ext cx="426708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4876920" y="525780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will you help them ge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 rot="5400000">
            <a:off x="1028520" y="3466800"/>
            <a:ext cx="1066680" cy="990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 rot="5400000">
            <a:off x="3390840" y="5067000"/>
            <a:ext cx="1066680" cy="990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LC example of 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801440" y="2819520"/>
            <a:ext cx="55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essment Items from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1 Smal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14480" y="17136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04920" y="304920"/>
            <a:ext cx="8534160" cy="533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tive Assessments Dr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alig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76000" y="2374920"/>
            <a:ext cx="2329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 or 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076920" y="2374920"/>
            <a:ext cx="1443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689360" y="2374920"/>
            <a:ext cx="3748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come for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u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u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xci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748880" y="1004760"/>
            <a:ext cx="5645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Order Cognitive Skills = LO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Order Cognitive Skills = HO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571680" y="2181240"/>
            <a:ext cx="7866000" cy="3867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09440" y="5759280"/>
            <a:ext cx="89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jamin S. Bloo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xonomy of educational objectiv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Published by Allyn and Bacon, Boston, MA. Copyright (c) 1984 by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4013280" y="1952640"/>
            <a:ext cx="357120" cy="1752480"/>
          </a:xfrm>
          <a:custGeom>
            <a:avLst/>
            <a:gdLst>
              <a:gd name="textAreaLeft" fmla="*/ 0 w 357120"/>
              <a:gd name="textAreaRight" fmla="*/ 128880 w 3571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4571280" y="2536920"/>
            <a:ext cx="42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order cognitiv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HO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570560" y="417672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order cognitiv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O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28600" y="1419120"/>
            <a:ext cx="3629160" cy="43722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7"/>
          <p:cNvSpPr/>
          <p:nvPr/>
        </p:nvSpPr>
        <p:spPr>
          <a:xfrm>
            <a:off x="4013280" y="3781440"/>
            <a:ext cx="357120" cy="1295280"/>
          </a:xfrm>
          <a:custGeom>
            <a:avLst/>
            <a:gdLst>
              <a:gd name="textAreaLeft" fmla="*/ 0 w 357120"/>
              <a:gd name="textAreaRight" fmla="*/ 128880 w 3571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19080" y="673200"/>
          <a:ext cx="7236000" cy="5279760"/>
        </p:xfrm>
        <a:graphic>
          <a:graphicData uri="http://schemas.openxmlformats.org/drawingml/2006/table">
            <a:tbl>
              <a:tblPr/>
              <a:tblGrid>
                <a:gridCol w="1465200"/>
                <a:gridCol w="5770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gnitive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loom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 Simple Phrase to Guide Categor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erbs Typically Associated with the 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valu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fend or judge a concept or idea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ynthe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reate something new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naly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istinguish parts and make inference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OC/H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pp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se information or concepts in new way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mpreh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xplain information or concept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call information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6:03:34Z</dcterms:created>
  <dc:creator>michelle</dc:creator>
  <dc:description/>
  <dc:language>en-US</dc:language>
  <cp:lastModifiedBy>Robin Heyden</cp:lastModifiedBy>
  <dcterms:modified xsi:type="dcterms:W3CDTF">2012-05-30T18:51:00Z</dcterms:modified>
  <cp:revision>193</cp:revision>
  <dc:subject/>
  <dc:title>Example of Scientific Teaching</dc:title>
</cp:coreProperties>
</file>